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02690"/>
        <c:axId val="35183259"/>
      </c:barChart>
      <c:catAx>
        <c:axId val="75802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3259"/>
        <c:crosses val="autoZero"/>
        <c:auto val="1"/>
        <c:lblAlgn val="ctr"/>
        <c:lblOffset val="100"/>
        <c:noMultiLvlLbl val="0"/>
      </c:catAx>
      <c:valAx>
        <c:axId val="35183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02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206-2F72-433B-87C1-60538D96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AAA-D047-4843-9EA8-E14E82B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A0B-95F8-4FB4-B3FC-CC37D666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2B3-406F-4001-9BD4-308AD468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FF9-D8B6-4F13-94D5-F04FD208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E89-3794-4F3A-8A88-90AB708C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27C-AD06-44EA-91D2-F1E1336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32A-0354-48B7-BBD1-3783EA16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C83-1178-42FB-A041-1C46B4E5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EFD-E31F-4005-A6A8-FAB2C45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A36-B8CB-43F6-BA85-B3BABC8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BDC-C59A-4F7D-8C0B-EA66157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D0255-2602-46B7-A505-450081298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