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37799"/>
        <c:axId val="49782538"/>
      </c:barChart>
      <c:catAx>
        <c:axId val="49137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82538"/>
        <c:crosses val="autoZero"/>
        <c:auto val="1"/>
        <c:lblAlgn val="ctr"/>
        <c:lblOffset val="100"/>
        <c:noMultiLvlLbl val="0"/>
      </c:catAx>
      <c:valAx>
        <c:axId val="49782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37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798-F92F-423F-A016-FE6C0588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8F3-0E65-4B3B-8FF3-937AAD73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CF8-6D34-40EA-9562-D65E1B73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F8A-AC50-4D7C-8FC8-E6154C23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ED9-5D43-43C7-BE14-91E0AE5E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2FE-F39E-4733-8B2F-97A8C227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99D-2113-43B2-AF79-41A4C914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298-CDF4-4802-90DC-D3E125A4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580-EEF2-4C03-B0CF-C8D7E7FA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A72-7FC2-4447-9BE9-97033F33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FFB-4B1F-4CF6-897D-0E62A275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076-32CF-4FFB-80D9-74BBB911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A77FA-FE6F-4483-937E-FA1764AAC4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