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04689"/>
        <c:axId val="83308663"/>
      </c:barChart>
      <c:catAx>
        <c:axId val="36604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08663"/>
        <c:crosses val="autoZero"/>
        <c:auto val="1"/>
        <c:lblAlgn val="ctr"/>
        <c:lblOffset val="100"/>
        <c:noMultiLvlLbl val="0"/>
      </c:catAx>
      <c:valAx>
        <c:axId val="83308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04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2A7-4DFF-4F8C-875E-9AE0C9A2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C93-E064-4F0F-B53B-9C92E740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987-C35E-42FD-9DE7-62E52E28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A4E-D423-48DE-A628-3D1A2F1B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3D5-6759-429D-9025-8966EB34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24B-E982-4D5F-A8DE-12FF31AF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AB7-AF22-4AEB-9ACD-129FA0A9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55D-29FA-41E9-A520-79C08978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DFF-89CA-4D0C-A007-1C824769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507-6261-447D-A324-96FC44FC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59D-2247-4888-AA26-66E2EDF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898-46B5-4451-AC76-1A349C5F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FB353-5DDC-4CA1-B7C6-25C99878CD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